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1.png" ContentType="image/png"/>
  <Override PartName="/ppt/media/image29.wmf" ContentType="image/x-wmf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1.jpeg" ContentType="image/jpeg"/>
  <Override PartName="/ppt/media/image34.wmf" ContentType="image/x-wmf"/>
  <Override PartName="/ppt/media/image35.png" ContentType="image/png"/>
  <Override PartName="/ppt/media/image5.jpeg" ContentType="image/jpeg"/>
  <Override PartName="/ppt/media/image13.png" ContentType="image/png"/>
  <Override PartName="/ppt/media/image33.wmf" ContentType="image/x-wmf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32.png" ContentType="image/png"/>
  <Override PartName="/ppt/media/image7.png" ContentType="image/png"/>
  <Override PartName="/ppt/media/image43.wmf" ContentType="image/x-wmf"/>
  <Override PartName="/ppt/media/image44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41.wmf" ContentType="image/x-wmf"/>
  <Override PartName="/ppt/media/image8.jpeg" ContentType="image/jpeg"/>
  <Override PartName="/ppt/media/image42.wmf" ContentType="image/x-wmf"/>
  <Override PartName="/ppt/media/image9.png" ContentType="image/png"/>
  <Override PartName="/ppt/media/image12.png" ContentType="image/png"/>
  <Override PartName="/ppt/media/image6.png" ContentType="image/png"/>
  <Override PartName="/ppt/media/image4.jpeg" ContentType="image/jpeg"/>
  <Override PartName="/ppt/media/image40.png" ContentType="image/png"/>
  <Override PartName="/ppt/media/image3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713F-9C1D-49EA-9D79-2E6D952459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2977-0487-4D1C-8122-B169E6032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the excel sheet picture and the picture of a segment of our fathom table that includeseverything g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C638-E451-4EDD-B041-0251C2009EE3}" type="slidenum">
              <a:rPr b="0" lang="en-US" sz="1200" spc="-1" strike="noStrike">
                <a:solidFill>
                  <a:srgbClr val="f5e1e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5e1e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185-580B-457A-A23F-C059D52E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47C-846F-48C3-8A97-AB0E25B8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ADE-9F79-4CCA-BFF5-E73BFE2E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376-3595-4597-969B-4D61A3A9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FFE8-E7A9-4298-8886-86A29475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4C18-1003-419A-8DA9-DBC40594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D193-4E13-4920-A8A4-411675E1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E932-5CBE-47E2-8723-2A065A62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3A4A-03AB-43E8-82FB-8547EEB2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98B6-1DD3-4ED6-8D9A-B1357B4B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61C8-D185-472B-B7C9-69DB8D4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85B-7776-4E73-B8B0-670886CC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6613-1299-4546-9C80-4289DDF3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C488-4379-4613-87F6-5E02381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C891-A7D5-402C-A758-7C4CC1D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0682-FEFD-47BE-B859-A1E31521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E701-E4B6-41AD-918E-E08945D2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8D96-B934-45A2-B72F-49FEBE71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AF08-A25B-4B68-A58F-5061BF35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6EE3-76BB-4A7D-BBF8-D17FE633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2681-0B20-429A-B11B-934DE117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0F3A-8FFD-4E72-821C-9B9274DF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FF3-A824-4CCF-9AC8-43FAABCF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32628-7A9D-48A4-A4B1-1A1CD6BC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CECF-48C0-4C8F-BCCD-7A51168B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B7AA-CEE1-4620-B435-3367DE97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74954-DD0F-4C61-99BA-15700C9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BF0D9-9CF6-4759-BA94-15B076E5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1F2B0-FEAE-453C-A74F-8403B93F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FCFD-4CF2-445E-BE2F-A448D39B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DD2D0-D9AE-495D-AD4A-6A0E1B46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AF609-4D45-456C-B75B-F34BFF9B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97D9-C853-4D07-9B72-35B8D2A7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78A-7605-4ACA-857E-E3EBF75F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2AAC-444C-4EF4-855A-EABAEA49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DEC4-F676-438E-93DD-A66D04F9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CD13A-83AB-4C82-8CB3-CC30CD9B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09A61-8423-4C43-B6A0-76C5EF33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AE53B-867D-4CB0-A904-6FE6517A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11F08-6328-4BFA-8AA4-0A1CEFD5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541A-A26D-4EAA-AA8D-3F0BDEDC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A603-E940-4443-B98F-BABC4B92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7CE79-41F8-45E1-AB66-6A3891A4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32D4E-399B-449C-B382-75137F6A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548-C3C5-424A-8823-42D13E1F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89A29-957F-44D1-B195-EE49261E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B042B-6E21-4910-8825-C1B761DD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FC1C-48EC-40E6-BCC0-938349C2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9ABA6-C275-41A0-8853-2D0D6983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A9F7D-25FB-4BBE-8DA2-8B51C8A9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8CD5-AAB5-4A97-BEC9-F2636607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E7781-BF37-4C30-B918-15C46E3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F7CBD-E09E-4CEC-9C07-8B7031D5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9815A-1C35-4DDA-8657-2877847B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907F-EB11-4AD0-AAAC-6DD3C326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6DF-0B7D-4409-958A-46DF11B4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4FA48-4812-4342-A728-BE0EBC08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B5E-5C51-4E2C-BA72-FD81A0B0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F49-6C34-44BF-8583-35623AA1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318-5587-4109-A228-8DB68B19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5e1ec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A575-A187-4228-8650-84C47C3F7E54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DE31-1347-4B9C-ADBB-EA04D8CD2EA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5e1ec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88D8-68BF-443F-B65B-F136838AE5CA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857A-7D7C-4B95-9C45-970BFBD4BD1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5e1ec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1773-6080-431E-9BA6-E90BE03765DA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AABB-7437-4140-A4E5-CFE12D691AC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EFAD-C108-4531-A3AD-421941D816A7}" type="datetime">
              <a:rPr b="0" lang="en-US" sz="1000" spc="-1" strike="noStrike">
                <a:solidFill>
                  <a:srgbClr val="000000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6CB4-FC7D-42AA-80C0-BDA4232551C6}" type="slidenum">
              <a:rPr b="0" lang="en-US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5e1ec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5e1e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D5FC-0E33-4BC2-86CC-2803ED221026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FAB2-0990-417B-B884-C91E36444C9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astrologers-online.com/linda_black.php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://www.8seconds.net/userfiles/files/2009/07/fortune_teller.jpg"/>
          <p:cNvPicPr/>
          <p:nvPr/>
        </p:nvPicPr>
        <p:blipFill>
          <a:blip r:embed="rId1"/>
          <a:srcRect l="10872" t="13460" r="9839" b="0"/>
          <a:stretch/>
        </p:blipFill>
        <p:spPr>
          <a:xfrm>
            <a:off x="-228600" y="-228600"/>
            <a:ext cx="9991800" cy="7253280"/>
          </a:xfrm>
          <a:prstGeom prst="rect">
            <a:avLst/>
          </a:prstGeom>
          <a:ln w="0">
            <a:noFill/>
          </a:ln>
        </p:spPr>
      </p:pic>
      <p:pic>
        <p:nvPicPr>
          <p:cNvPr id="228" name="Title 1" descr=""/>
          <p:cNvPicPr/>
          <p:nvPr/>
        </p:nvPicPr>
        <p:blipFill>
          <a:blip r:embed="rId2"/>
          <a:stretch/>
        </p:blipFill>
        <p:spPr>
          <a:xfrm>
            <a:off x="682560" y="3956040"/>
            <a:ext cx="6986520" cy="1158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380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lleen Kempf &amp;</a:t>
            </a:r>
            <a:endParaRPr b="0" lang="en-US" sz="2400" spc="-1" strike="noStrike">
              <a:solidFill>
                <a:srgbClr val="f5e1ec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nielle Zolotnitsky</a:t>
            </a:r>
            <a:endParaRPr b="0" lang="en-US" sz="24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30" name="5-Point Star 4"/>
          <p:cNvSpPr/>
          <p:nvPr/>
        </p:nvSpPr>
        <p:spPr>
          <a:xfrm rot="534000">
            <a:off x="4618080" y="3368160"/>
            <a:ext cx="723960" cy="654120"/>
          </a:xfrm>
          <a:custGeom>
            <a:avLst/>
            <a:gdLst>
              <a:gd name="textAreaLeft" fmla="*/ 223560 w 723960"/>
              <a:gd name="textAreaRight" fmla="*/ 500400 w 723960"/>
              <a:gd name="textAreaTop" fmla="*/ 249840 h 654120"/>
              <a:gd name="textAreaBottom" fmla="*/ 499680 h 654120"/>
            </a:gdLst>
            <a:ahLst/>
            <a:rect l="textAreaLeft" t="textAreaTop" r="textAreaRight" b="textAreaBottom"/>
            <a:pathLst>
              <a:path w="723900" h="654050">
                <a:moveTo>
                  <a:pt x="1" y="249824"/>
                </a:moveTo>
                <a:lnTo>
                  <a:pt x="276507" y="249826"/>
                </a:lnTo>
                <a:lnTo>
                  <a:pt x="361950" y="0"/>
                </a:lnTo>
                <a:lnTo>
                  <a:pt x="447393" y="249826"/>
                </a:lnTo>
                <a:lnTo>
                  <a:pt x="723899" y="249824"/>
                </a:lnTo>
                <a:lnTo>
                  <a:pt x="500200" y="404223"/>
                </a:lnTo>
                <a:lnTo>
                  <a:pt x="585648" y="654048"/>
                </a:lnTo>
                <a:lnTo>
                  <a:pt x="361950" y="499646"/>
                </a:lnTo>
                <a:lnTo>
                  <a:pt x="138252" y="654048"/>
                </a:lnTo>
                <a:lnTo>
                  <a:pt x="223700" y="404223"/>
                </a:lnTo>
                <a:close/>
              </a:path>
            </a:pathLst>
          </a:custGeom>
          <a:solidFill>
            <a:srgbClr val="000000"/>
          </a:solidFill>
          <a:ln w="39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231" name="5-Point Star 5"/>
          <p:cNvSpPr/>
          <p:nvPr/>
        </p:nvSpPr>
        <p:spPr>
          <a:xfrm rot="595800">
            <a:off x="5267160" y="3800520"/>
            <a:ext cx="489240" cy="428760"/>
          </a:xfrm>
          <a:custGeom>
            <a:avLst/>
            <a:gdLst>
              <a:gd name="textAreaLeft" fmla="*/ 151200 w 489240"/>
              <a:gd name="textAreaRight" fmla="*/ 338040 w 48924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488950" h="428625">
                <a:moveTo>
                  <a:pt x="1" y="163720"/>
                </a:moveTo>
                <a:lnTo>
                  <a:pt x="186763" y="163721"/>
                </a:lnTo>
                <a:lnTo>
                  <a:pt x="244475" y="0"/>
                </a:lnTo>
                <a:lnTo>
                  <a:pt x="302187" y="163721"/>
                </a:lnTo>
                <a:lnTo>
                  <a:pt x="488949" y="163720"/>
                </a:lnTo>
                <a:lnTo>
                  <a:pt x="337855" y="264903"/>
                </a:lnTo>
                <a:lnTo>
                  <a:pt x="395569" y="428624"/>
                </a:lnTo>
                <a:lnTo>
                  <a:pt x="244475" y="327438"/>
                </a:lnTo>
                <a:lnTo>
                  <a:pt x="93381" y="428624"/>
                </a:lnTo>
                <a:lnTo>
                  <a:pt x="151095" y="264903"/>
                </a:lnTo>
                <a:close/>
              </a:path>
            </a:pathLst>
          </a:custGeom>
          <a:solidFill>
            <a:srgbClr val="000000"/>
          </a:solidFill>
          <a:ln w="39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232" name="5-Point Star 6"/>
          <p:cNvSpPr/>
          <p:nvPr/>
        </p:nvSpPr>
        <p:spPr>
          <a:xfrm rot="20473200">
            <a:off x="5436720" y="3416040"/>
            <a:ext cx="250920" cy="206280"/>
          </a:xfrm>
          <a:custGeom>
            <a:avLst/>
            <a:gdLst>
              <a:gd name="textAreaLeft" fmla="*/ 77400 w 250920"/>
              <a:gd name="textAreaRight" fmla="*/ 173520 w 250920"/>
              <a:gd name="textAreaTop" fmla="*/ 78840 h 206280"/>
              <a:gd name="textAreaBottom" fmla="*/ 157680 h 206280"/>
            </a:gdLst>
            <a:ahLst/>
            <a:rect l="textAreaLeft" t="textAreaTop" r="textAreaRight" b="textAreaBottom"/>
            <a:pathLst>
              <a:path w="250825" h="206375">
                <a:moveTo>
                  <a:pt x="0" y="78828"/>
                </a:moveTo>
                <a:lnTo>
                  <a:pt x="95807" y="78829"/>
                </a:lnTo>
                <a:lnTo>
                  <a:pt x="125413" y="0"/>
                </a:lnTo>
                <a:lnTo>
                  <a:pt x="155018" y="78829"/>
                </a:lnTo>
                <a:lnTo>
                  <a:pt x="250825" y="78828"/>
                </a:lnTo>
                <a:lnTo>
                  <a:pt x="173315" y="127546"/>
                </a:lnTo>
                <a:lnTo>
                  <a:pt x="202922" y="206374"/>
                </a:lnTo>
                <a:lnTo>
                  <a:pt x="125413" y="157655"/>
                </a:lnTo>
                <a:lnTo>
                  <a:pt x="47903" y="206374"/>
                </a:lnTo>
                <a:lnTo>
                  <a:pt x="77510" y="127546"/>
                </a:lnTo>
                <a:close/>
              </a:path>
            </a:pathLst>
          </a:custGeom>
          <a:solidFill>
            <a:srgbClr val="000000"/>
          </a:solidFill>
          <a:ln w="39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9"/>
          <p:cNvSpPr/>
          <p:nvPr/>
        </p:nvSpPr>
        <p:spPr>
          <a:xfrm>
            <a:off x="0" y="4876920"/>
            <a:ext cx="8153280" cy="1981080"/>
          </a:xfrm>
          <a:prstGeom prst="rect">
            <a:avLst/>
          </a:prstGeom>
          <a:solidFill>
            <a:srgbClr val="fef0d7"/>
          </a:solidFill>
          <a:ln w="399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hi-Square Goodness of Fit Tes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onditions: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Categorical data 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Horoscope ratings are categorical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SRS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 --- 600 random ratings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All cell counts &gt; 5 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all exp. cell counts &gt; 5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All conditions met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distribution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GOF test</a:t>
            </a:r>
            <a:endParaRPr b="0" lang="en-US" sz="20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Hypotheses: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Ho: Ratings are uniformly distributed</a:t>
            </a:r>
            <a:br>
              <a:rPr sz="2000"/>
            </a:b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    Ha: Ratings are not uniformly distributed</a:t>
            </a:r>
            <a:endParaRPr b="0" lang="en-US" sz="20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62" name="Picture 2" descr="http://www.stat.yale.edu/Courses/1997-98/101/chi.gif"/>
          <p:cNvPicPr/>
          <p:nvPr/>
        </p:nvPicPr>
        <p:blipFill>
          <a:blip r:embed="rId2"/>
          <a:stretch/>
        </p:blipFill>
        <p:spPr>
          <a:xfrm>
            <a:off x="63360" y="-136440"/>
            <a:ext cx="266760" cy="247680"/>
          </a:xfrm>
          <a:prstGeom prst="rect">
            <a:avLst/>
          </a:prstGeom>
          <a:ln w="0">
            <a:noFill/>
          </a:ln>
        </p:spPr>
      </p:pic>
      <p:sp>
        <p:nvSpPr>
          <p:cNvPr id="263" name="Content Placeholder 2"/>
          <p:cNvSpPr/>
          <p:nvPr/>
        </p:nvSpPr>
        <p:spPr>
          <a:xfrm>
            <a:off x="0" y="48006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+                  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= 352.2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 (     &gt;352.2|df=6)=0.0001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Bell MT"/>
              </a:rPr>
              <a:t> 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304920" y="5029200"/>
                <a:ext cx="2184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65" name="Object 13"/>
          <p:cNvGraphicFramePr/>
          <p:nvPr/>
        </p:nvGraphicFramePr>
        <p:xfrm>
          <a:off x="4724280" y="5181480"/>
          <a:ext cx="167652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5181480"/>
                    <a:ext cx="16765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4"/>
          <p:cNvGraphicFramePr/>
          <p:nvPr/>
        </p:nvGraphicFramePr>
        <p:xfrm>
          <a:off x="2590920" y="5105520"/>
          <a:ext cx="1828800" cy="68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105520"/>
                    <a:ext cx="1828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Object 15"/>
              <p:cNvSpPr txBox="1"/>
              <p:nvPr/>
            </p:nvSpPr>
            <p:spPr>
              <a:xfrm>
                <a:off x="457200" y="6172200"/>
                <a:ext cx="507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80520" y="152352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We reject the Ho because the p-value of 0.001</a:t>
            </a:r>
            <a:r>
              <a:rPr b="0" lang="en-US" sz="24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is less than the alpha value of .05. We have sufficient evidence that ratings are not uniformly distributed. 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72" name="Picture 6" descr="horoscope-trines"/>
          <p:cNvPicPr/>
          <p:nvPr/>
        </p:nvPicPr>
        <p:blipFill>
          <a:blip r:embed="rId2"/>
          <a:stretch/>
        </p:blipFill>
        <p:spPr>
          <a:xfrm>
            <a:off x="2514600" y="3581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328680" y="189000"/>
            <a:ext cx="7351560" cy="1249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5029200" cy="4106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2514600" cy="40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hi-Square Independence tes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onditions: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2 Independent SRS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yes, known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All cell counts &gt; 5 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all exp. cell counts &gt; 5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All conditions met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distribution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Independence test</a:t>
            </a:r>
            <a:endParaRPr b="0" lang="en-US" sz="20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Hypotheses: 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Ho: There is no association between sign and rating</a:t>
            </a: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      Ha: There is an association between sign and rating</a:t>
            </a:r>
            <a:endParaRPr b="0" lang="en-US" sz="15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0" y="4876920"/>
            <a:ext cx="8153280" cy="1981080"/>
          </a:xfrm>
          <a:prstGeom prst="rect">
            <a:avLst/>
          </a:prstGeom>
          <a:solidFill>
            <a:srgbClr val="fef0d7"/>
          </a:solidFill>
          <a:ln w="399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279" name="Content Placeholder 2"/>
          <p:cNvSpPr/>
          <p:nvPr/>
        </p:nvSpPr>
        <p:spPr>
          <a:xfrm>
            <a:off x="0" y="48006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                                                           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=37.38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(    &gt;37.38|df=33)=0.27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304920" y="5029200"/>
                <a:ext cx="2184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1" name="Object 9"/>
          <p:cNvGraphicFramePr/>
          <p:nvPr/>
        </p:nvGraphicFramePr>
        <p:xfrm>
          <a:off x="4952880" y="5029200"/>
          <a:ext cx="1828800" cy="73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5029200"/>
                    <a:ext cx="18288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10"/>
          <p:cNvGraphicFramePr/>
          <p:nvPr/>
        </p:nvGraphicFramePr>
        <p:xfrm>
          <a:off x="2895480" y="4952880"/>
          <a:ext cx="1905120" cy="75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4952880"/>
                    <a:ext cx="190512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Object 11"/>
              <p:cNvSpPr txBox="1"/>
              <p:nvPr/>
            </p:nvSpPr>
            <p:spPr>
              <a:xfrm>
                <a:off x="457200" y="6095880"/>
                <a:ext cx="507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380520" y="152352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We fail to reject the Ho because the p-value of 0.27 is greater than the alpha value of .05. We have sufficient evidence that there is no association between sign and rating.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88" name="Picture 7" descr="horoscope-trines"/>
          <p:cNvPicPr/>
          <p:nvPr/>
        </p:nvPicPr>
        <p:blipFill>
          <a:blip r:embed="rId2"/>
          <a:stretch/>
        </p:blipFill>
        <p:spPr>
          <a:xfrm>
            <a:off x="2590920" y="38862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353120"/>
          </a:xfrm>
          <a:prstGeom prst="rect">
            <a:avLst/>
          </a:prstGeom>
          <a:ln w="0">
            <a:noFill/>
          </a:ln>
        </p:spPr>
      </p:pic>
      <p:pic>
        <p:nvPicPr>
          <p:cNvPr id="290" name="Title 1" descr=""/>
          <p:cNvPicPr/>
          <p:nvPr/>
        </p:nvPicPr>
        <p:blipFill>
          <a:blip r:embed="rId2"/>
          <a:stretch/>
        </p:blipFill>
        <p:spPr>
          <a:xfrm>
            <a:off x="328680" y="189000"/>
            <a:ext cx="7351560" cy="124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328680" y="189000"/>
            <a:ext cx="7351560" cy="1249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8077320" cy="2895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2133720" y="5334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66"/>
                </a:solidFill>
                <a:latin typeface="Arial"/>
              </a:rPr>
              <a:t>What’s your sign’s mean rating?</a:t>
            </a:r>
            <a:endParaRPr b="0" lang="en-US" sz="2400" spc="-1" strike="noStrike">
              <a:solidFill>
                <a:srgbClr val="f5e1e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hi-Square Independence test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onditions: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2 Independent SRS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yes, known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e6ef"/>
                </a:solidFill>
                <a:latin typeface="Trebuchet MS"/>
              </a:rPr>
              <a:t>All cell counts &gt; 5 </a:t>
            </a:r>
            <a:r>
              <a:rPr b="0" lang="en-US" sz="2000" spc="-1" strike="noStrike">
                <a:solidFill>
                  <a:srgbClr val="f7e6ef"/>
                </a:solidFill>
                <a:latin typeface="Trebuchet MS"/>
              </a:rPr>
              <a:t>--- all exp. cell counts &gt; 5</a:t>
            </a:r>
            <a:endParaRPr b="0" lang="en-US" sz="2000" spc="-1" strike="noStrike">
              <a:solidFill>
                <a:srgbClr val="f7e6ef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All conditions met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distribution &gt;&gt; </a:t>
            </a:r>
            <a:r>
              <a:rPr b="0" i="1" lang="el-GR" sz="2000" spc="-1" strike="noStrike">
                <a:solidFill>
                  <a:srgbClr val="f5e1ec"/>
                </a:solidFill>
                <a:latin typeface="Trebuchet MS"/>
              </a:rPr>
              <a:t>χ</a:t>
            </a:r>
            <a:r>
              <a:rPr b="1" i="1" lang="el-GR" sz="2000" spc="-1" strike="noStrike">
                <a:solidFill>
                  <a:srgbClr val="f5e1ec"/>
                </a:solidFill>
                <a:latin typeface="Trebuchet MS"/>
              </a:rPr>
              <a:t>²</a:t>
            </a:r>
            <a:r>
              <a:rPr b="1" i="1" lang="en-US" sz="2000" spc="-1" strike="noStrike">
                <a:solidFill>
                  <a:srgbClr val="f5e1ec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5e1ec"/>
                </a:solidFill>
                <a:latin typeface="Trebuchet MS"/>
              </a:rPr>
              <a:t>Independence test</a:t>
            </a:r>
            <a:endParaRPr b="0" lang="en-US" sz="20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Hypotheses: 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Ho: There is no association between sign and area</a:t>
            </a: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      Ha: There is an association between sign and area</a:t>
            </a:r>
            <a:endParaRPr b="0" lang="en-US" sz="15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4876920"/>
            <a:ext cx="8153280" cy="1981080"/>
          </a:xfrm>
          <a:prstGeom prst="rect">
            <a:avLst/>
          </a:prstGeom>
          <a:solidFill>
            <a:srgbClr val="fef0d7"/>
          </a:solidFill>
          <a:ln w="399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0" y="48006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                                                            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=32.04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Bell MT"/>
              </a:rPr>
              <a:t>P(     &gt;32.04|df=55)=.99</a:t>
            </a: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04920" y="5029200"/>
                <a:ext cx="2184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99" name="Object 3"/>
          <p:cNvGraphicFramePr/>
          <p:nvPr/>
        </p:nvGraphicFramePr>
        <p:xfrm>
          <a:off x="2701800" y="5029200"/>
          <a:ext cx="1605240" cy="7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1800" y="5029200"/>
                    <a:ext cx="16052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4"/>
          <p:cNvGraphicFramePr/>
          <p:nvPr/>
        </p:nvGraphicFramePr>
        <p:xfrm>
          <a:off x="4867200" y="5029200"/>
          <a:ext cx="1693800" cy="750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67200" y="5029200"/>
                    <a:ext cx="169380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3" name="Object 9"/>
              <p:cNvSpPr txBox="1"/>
              <p:nvPr/>
            </p:nvSpPr>
            <p:spPr>
              <a:xfrm>
                <a:off x="457200" y="6095880"/>
                <a:ext cx="507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We fail to reject the Ho because the p-value of 0.99 is greater than the alpha value of .05. We have sufficient evidence that there is no association between sign and area.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306" name="Picture 6" descr="horoscope-trines"/>
          <p:cNvPicPr/>
          <p:nvPr/>
        </p:nvPicPr>
        <p:blipFill>
          <a:blip r:embed="rId2"/>
          <a:stretch/>
        </p:blipFill>
        <p:spPr>
          <a:xfrm>
            <a:off x="2590920" y="38862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328680" y="189000"/>
            <a:ext cx="7351560" cy="1249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6019920" cy="491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150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276360" y="15238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Ancient Greek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Position of sun, moon, and planet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Possible influences/not the future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Phone and facebook apps, websites, newspapers, etc.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LA Times, Psychic Linda Black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Rate each day on a scale of 1-10 and give prediction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35" name="Picture 2" descr="Linda Black : Astrology, Daily Horoscopes and Annotated Aspectari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2057400"/>
            <a:ext cx="2057400" cy="28465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83808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1ec"/>
                </a:solidFill>
                <a:latin typeface="Trebuchet MS"/>
              </a:rPr>
              <a:t>Linda Black</a:t>
            </a:r>
            <a:endParaRPr b="0" lang="en-US" sz="1800" spc="-1" strike="noStrike">
              <a:solidFill>
                <a:srgbClr val="f5e1ec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328680" y="189000"/>
            <a:ext cx="7351560" cy="1249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876560" cy="3983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"/>
          <p:cNvPicPr/>
          <p:nvPr/>
        </p:nvPicPr>
        <p:blipFill>
          <a:blip r:embed="rId3"/>
          <a:stretch/>
        </p:blipFill>
        <p:spPr>
          <a:xfrm>
            <a:off x="5410080" y="2133720"/>
            <a:ext cx="2522520" cy="396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Application to Population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The ratings of horoscopes are not evenly distributed; they are quite inflated toward the positive side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Each sign has a different “personality”, but that does not warrant for an association between sign and rating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All because one is a specific sign, they cannot expect more horoscopes based upon a certain genre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Some could have discrepancies with our scale of goodness; very high (9-10), high (7-8), medium (5-6), and low (4)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Areas fall under two categorie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No days below a “4”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316" name="Picture 2" descr="http://3.bp.blogspot.com/_toa6AO6fij0/THSQF6J5Y3I/AAAAAAAAALU/-HdksOSQykc/s1600/horoscope.jpg"/>
          <p:cNvPicPr/>
          <p:nvPr/>
        </p:nvPicPr>
        <p:blipFill>
          <a:blip r:embed="rId2"/>
          <a:stretch/>
        </p:blipFill>
        <p:spPr>
          <a:xfrm>
            <a:off x="4800600" y="4038480"/>
            <a:ext cx="2438280" cy="242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We don’t believe in horoscope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No rating below 4, don’t want to give people negative day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laim that each zodiac sign makes a person different, but according to this study, all areas of concern and daily ratings are roughly the same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319" name="Picture 2" descr="http://all-silhouettes.com/wp-content/uploads/2009/06/vectorzodiacsigns.jpg"/>
          <p:cNvPicPr/>
          <p:nvPr/>
        </p:nvPicPr>
        <p:blipFill>
          <a:blip r:embed="rId2"/>
          <a:srcRect l="0" t="0" r="0" b="18076"/>
          <a:stretch/>
        </p:blipFill>
        <p:spPr>
          <a:xfrm>
            <a:off x="2133720" y="4743360"/>
            <a:ext cx="4190760" cy="211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Activity-Yesterday’s Horoscope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3152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Today's birthday (01/09/11). Your generous nature springs up this year. Your leadership skills are sprouting, even if you didn't know you had them. Together they provide an excellent frame for making a difference in your world. You don't have to do it all alone. And don't forget to take care of yourself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Aries (March 21-April 19) -- Today is a 5 -- It's a great day to focus on completing the projects at work that you've been procrastinating about. Take time to organize, and it goes faster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Taurus (April 20-May 20) -- Today is an 8 -- Work produces additional exciting income opportunities. You may have to travel. Take special care of your health, and don't forget to breathe.</a:t>
            </a:r>
            <a:br>
              <a:rPr sz="1400"/>
            </a:br>
            <a:endParaRPr b="0" lang="en-US" sz="14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Gemini (May 21-June 21) -- Today is an 8 -- Align your decisions logically, and support them with facts. Eat healthy, delicious foods, avoiding fish with high mercury content. Nurture yourself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Cancer (June 22-July 22) -- Today is a 7 -- Look first and then spring into action. Go on a trip, maybe. Take a bike ride. Let the wind blow in your face. Take it all in as you play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Leo (July 23-Aug. 22) -- Today is a 5 -- It's a great day to finish projects at home, whether fixing a hole where the rain gets in, or just doing the laundry. Archive family photos to share, maybe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5e1ec"/>
                </a:solidFill>
                <a:latin typeface="Trebuchet MS"/>
              </a:rPr>
              <a:t>Virgo (Aug. 23-Sept. 22) -- Today is a 6 -- A problem is solved with logic, and you learn from any mistakes. Get assistance from a loved one. It's a good day for romance. Light some candles.</a:t>
            </a:r>
            <a:br>
              <a:rPr sz="1400"/>
            </a:br>
            <a:br>
              <a:rPr sz="1000"/>
            </a:br>
            <a:endParaRPr b="0" lang="en-US" sz="1400" spc="-1" strike="noStrike">
              <a:solidFill>
                <a:srgbClr val="f5e1ec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Libra (Sept. 23-Oct. 22) -- Today is a 6 -- Words come easily today, including standards like "thanks" and "I love you." Use them to add flavor and appreciation to projects, relationships and mealtimes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Scorpio (Oct. 23-Nov. 21) -- Today is an 8 -- You don't need to travel far. Use your imagination to go anywhere you want. It's a great day to write down a business plan or invent new possibilities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Sagittarius (Nov. 22-Dec. 21) -- Today is an 8 -- Opportunity knocks, so open the door. You may just fall in love all over again. Everything's lining up, and you're producing with ease and grace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Capricorn (Dec. 22-Jan. 19) -- Today is a 6 -- You find the energy to do something you always wanted to do. It's a time for renewal and deeper understanding of yourself, so allow this splurge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Aquarius (Jan. 20-Feb. 18) -- Today is a 7 -- A career opportunity shows up. Make sure that it's for real and not just an illusion. Money could be coming your way.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f5e1ec"/>
                </a:solidFill>
                <a:latin typeface="Trebuchet MS"/>
              </a:rPr>
              <a:t>Pisces (Feb. 19-March 20) -- Today is a 6 -- Life is good. You can handle all obstacles today. It's a great time to find lost friends. Others want what you have. Share, but also be willing to accept.</a:t>
            </a:r>
            <a:br>
              <a:rPr sz="1500"/>
            </a:br>
            <a:br>
              <a:rPr sz="1000"/>
            </a:br>
            <a:endParaRPr b="0" lang="en-US" sz="1500" spc="-1" strike="noStrike">
              <a:solidFill>
                <a:srgbClr val="f5e1ec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Activity-Yesterday’s Horoscope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rcRect l="29933" t="22978" r="44219" b="6880"/>
          <a:stretch/>
        </p:blipFill>
        <p:spPr>
          <a:xfrm>
            <a:off x="380880" y="533520"/>
            <a:ext cx="3810240" cy="5814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rcRect l="54167" t="27409" r="11250" b="11111"/>
          <a:stretch/>
        </p:blipFill>
        <p:spPr>
          <a:xfrm>
            <a:off x="4419720" y="1066680"/>
            <a:ext cx="4495680" cy="4496040"/>
          </a:xfrm>
          <a:prstGeom prst="rect">
            <a:avLst/>
          </a:prstGeom>
          <a:ln w="0">
            <a:noFill/>
          </a:ln>
        </p:spPr>
      </p:pic>
      <p:pic>
        <p:nvPicPr>
          <p:cNvPr id="239" name="Title 1" descr=""/>
          <p:cNvPicPr/>
          <p:nvPr/>
        </p:nvPicPr>
        <p:blipFill>
          <a:blip r:embed="rId3"/>
          <a:stretch/>
        </p:blipFill>
        <p:spPr>
          <a:xfrm>
            <a:off x="5315040" y="341280"/>
            <a:ext cx="2878200" cy="731880"/>
          </a:xfrm>
          <a:prstGeom prst="rect">
            <a:avLst/>
          </a:prstGeom>
          <a:ln w="0">
            <a:noFill/>
          </a:ln>
        </p:spPr>
      </p:pic>
      <p:pic>
        <p:nvPicPr>
          <p:cNvPr id="240" name="Title 1" descr=""/>
          <p:cNvPicPr/>
          <p:nvPr/>
        </p:nvPicPr>
        <p:blipFill>
          <a:blip r:embed="rId4"/>
          <a:stretch/>
        </p:blipFill>
        <p:spPr>
          <a:xfrm>
            <a:off x="4022640" y="5254560"/>
            <a:ext cx="749304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9200"/>
            <a:ext cx="76201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Are all the different ratings from 4-10 equally likely to occur overall?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Does zodiac sign affect the rating?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Does zodiac sign affect which areas of life are of most concern?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43" name="Picture 2" descr="Zodiac Sign"/>
          <p:cNvPicPr/>
          <p:nvPr/>
        </p:nvPicPr>
        <p:blipFill>
          <a:blip r:embed="rId2"/>
          <a:stretch/>
        </p:blipFill>
        <p:spPr>
          <a:xfrm>
            <a:off x="3505320" y="3505320"/>
            <a:ext cx="4038480" cy="3038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Tree Silhouette Against Starry Night Sky"/>
          <p:cNvPicPr/>
          <p:nvPr/>
        </p:nvPicPr>
        <p:blipFill>
          <a:blip r:embed="rId3"/>
          <a:stretch/>
        </p:blipFill>
        <p:spPr>
          <a:xfrm>
            <a:off x="304920" y="4191120"/>
            <a:ext cx="2895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6840" y="1609200"/>
            <a:ext cx="4419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1ec"/>
                </a:solidFill>
                <a:latin typeface="Trebuchet MS"/>
              </a:rPr>
              <a:t>Procedure and Variables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50 random numbers from 1 to 120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1ec"/>
                </a:solidFill>
                <a:latin typeface="Trebuchet MS"/>
              </a:rPr>
              <a:t>Choose the corresponding weeks from the horoscope archives and analyze</a:t>
            </a:r>
            <a:endParaRPr b="0" lang="en-US" sz="2600" spc="-1" strike="noStrike">
              <a:solidFill>
                <a:srgbClr val="f5e1ec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7e6ef"/>
                </a:solidFill>
                <a:latin typeface="Trebuchet MS"/>
              </a:rPr>
              <a:t>Test 1: used numbers 4-10</a:t>
            </a:r>
            <a:endParaRPr b="0" lang="en-US" sz="2200" spc="-1" strike="noStrike">
              <a:solidFill>
                <a:srgbClr val="f7e6ef"/>
              </a:solidFill>
              <a:latin typeface="Trebuchet MS"/>
            </a:endParaRPr>
          </a:p>
          <a:p>
            <a:pPr lvl="1" marL="499680" indent="-21924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7e6ef"/>
                </a:solidFill>
                <a:latin typeface="Trebuchet MS"/>
              </a:rPr>
              <a:t>Test 2: used scale of </a:t>
            </a:r>
            <a:endParaRPr b="0" lang="en-US" sz="2200" spc="-1" strike="noStrike">
              <a:solidFill>
                <a:srgbClr val="f7e6ef"/>
              </a:solidFill>
              <a:latin typeface="Trebuchet MS"/>
            </a:endParaRPr>
          </a:p>
          <a:p>
            <a:pPr lvl="2" marL="728280" indent="-21924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5e1ec"/>
                </a:solidFill>
                <a:latin typeface="Trebuchet MS"/>
              </a:rPr>
              <a:t>very high (v) = 9-10</a:t>
            </a:r>
            <a:endParaRPr b="0" lang="en-US" sz="1900" spc="-1" strike="noStrike">
              <a:solidFill>
                <a:srgbClr val="f5e1ec"/>
              </a:solidFill>
              <a:latin typeface="Trebuchet MS"/>
            </a:endParaRPr>
          </a:p>
          <a:p>
            <a:pPr lvl="2" marL="728280" indent="-21924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5e1ec"/>
                </a:solidFill>
                <a:latin typeface="Trebuchet MS"/>
              </a:rPr>
              <a:t>High (h) = 7-8</a:t>
            </a:r>
            <a:endParaRPr b="0" lang="en-US" sz="1900" spc="-1" strike="noStrike">
              <a:solidFill>
                <a:srgbClr val="f5e1ec"/>
              </a:solidFill>
              <a:latin typeface="Trebuchet MS"/>
            </a:endParaRPr>
          </a:p>
          <a:p>
            <a:pPr lvl="2" marL="728280" indent="-21924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5e1ec"/>
                </a:solidFill>
                <a:latin typeface="Trebuchet MS"/>
              </a:rPr>
              <a:t>Medium (m) = 5-6</a:t>
            </a:r>
            <a:endParaRPr b="0" lang="en-US" sz="1900" spc="-1" strike="noStrike">
              <a:solidFill>
                <a:srgbClr val="f5e1ec"/>
              </a:solidFill>
              <a:latin typeface="Trebuchet MS"/>
            </a:endParaRPr>
          </a:p>
          <a:p>
            <a:pPr lvl="2" marL="728280" indent="-21924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5e1ec"/>
                </a:solidFill>
                <a:latin typeface="Trebuchet MS"/>
              </a:rPr>
              <a:t>Low (l) = 4</a:t>
            </a:r>
            <a:endParaRPr b="0" lang="en-US" sz="19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47" name="Picture 2" descr="http://www.lamercollections.com/site_images/horoscope_image.jpg"/>
          <p:cNvPicPr/>
          <p:nvPr/>
        </p:nvPicPr>
        <p:blipFill>
          <a:blip r:embed="rId2"/>
          <a:stretch/>
        </p:blipFill>
        <p:spPr>
          <a:xfrm>
            <a:off x="4876920" y="2209680"/>
            <a:ext cx="3070080" cy="304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657240" y="2010960"/>
            <a:ext cx="4267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6ef"/>
                </a:solidFill>
                <a:latin typeface="Trebuchet MS"/>
              </a:rPr>
              <a:t>Test 3: used variables for area</a:t>
            </a:r>
            <a:endParaRPr b="0" lang="en-US" sz="2400" spc="-1" strike="noStrike">
              <a:solidFill>
                <a:srgbClr val="f7e6ef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H = health/energy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L = love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S = social/friendships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W = work/power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M = money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5e1ec"/>
                </a:solidFill>
                <a:latin typeface="Trebuchet MS"/>
              </a:rPr>
              <a:t>E = other emotions</a:t>
            </a:r>
            <a:endParaRPr b="0" lang="en-US" sz="21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e1ec"/>
                </a:solidFill>
                <a:latin typeface="Trebuchet MS"/>
              </a:rPr>
              <a:t>Conduct Tests and Intervals</a:t>
            </a:r>
            <a:r>
              <a:rPr b="1" lang="en-US" sz="2800" spc="-1" strike="noStrike">
                <a:solidFill>
                  <a:srgbClr val="f5e1ec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5e1e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50" name="Picture 2" descr="http://www.petrabaan.nl/uploads/images/illustration/Horoscoop_libelle_alle12_web.jpg"/>
          <p:cNvPicPr/>
          <p:nvPr/>
        </p:nvPicPr>
        <p:blipFill>
          <a:blip r:embed="rId2"/>
          <a:stretch/>
        </p:blipFill>
        <p:spPr>
          <a:xfrm>
            <a:off x="533520" y="1523880"/>
            <a:ext cx="2808000" cy="492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7492680" cy="115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139680" y="-231840"/>
            <a:ext cx="7797960" cy="1152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3351240" cy="510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3"/>
          <a:stretch/>
        </p:blipFill>
        <p:spPr>
          <a:xfrm>
            <a:off x="4191120" y="1219320"/>
            <a:ext cx="3352680" cy="510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5e1ec"/>
                </a:solidFill>
                <a:latin typeface="Trebuchet MS"/>
              </a:rPr>
              <a:t>Sign Distribution</a:t>
            </a:r>
            <a:endParaRPr b="1" lang="en-US" sz="3800" spc="-1" strike="noStrike">
              <a:solidFill>
                <a:srgbClr val="f5e1ec"/>
              </a:solidFill>
              <a:latin typeface="Trebuchet MS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257800" cy="4294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1538280" cy="426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9:37:35Z</dcterms:created>
  <dc:creator>kempf.C353</dc:creator>
  <dc:description/>
  <dc:language>en-US</dc:language>
  <cp:lastModifiedBy>Lauren Senske</cp:lastModifiedBy>
  <dcterms:modified xsi:type="dcterms:W3CDTF">2011-01-10T16:19:47Z</dcterms:modified>
  <cp:revision>57</cp:revision>
  <dc:subject/>
  <dc:title>Horoscopes</dc:title>
</cp:coreProperties>
</file>